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A98-886D-4DA1-A940-0E0DA963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935-0E4F-46B0-908C-73E8F97A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51D6E-6909-4E95-897A-879E5E4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D1C60-D66B-479A-90D5-04DFA4F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2472F-CCF0-46EE-9DA6-82435AB8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819B9-94E7-4E24-8B60-F8AD378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8DCB4-0620-4F9B-A5E9-7AFC3B9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6753D-75EF-44B4-81E5-A0F8A026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93FDA-E4F0-451A-BEC6-06F2D493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97056-D1BF-4BA2-9EEE-1E80AB23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E56BB-1859-4589-A20C-31D586D9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6D3-2318-4BD3-BEE9-680BA75F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FAA-1066-4146-AEE0-78B7ED48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BE82-6934-43F5-B52A-3C273EB0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522-B620-49FE-A69F-3D2F24A2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F568-B58E-49CE-915C-C06955D8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56DF-AD39-4445-A11C-EBD4C24A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87AB-0E74-49C0-BCFF-99B7255D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6AAA-8BC1-43BE-A14A-BB0CA27C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7BEE-CA4C-447A-8616-B3EAD03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C5D-B098-4E52-BB01-E0552BD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3934-2A83-4974-BA51-89920836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A70B-8264-4C5A-920E-C25B0171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7F70-050B-4A23-B501-67FB167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4500-3517-4D18-A4F5-BAB8D1B2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D397-795D-4AB1-AEB8-F841432B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8259-DF72-479F-A8D4-867E13E6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621E-F955-4359-89D3-39E81110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6976-4B35-4287-9ABC-8A096AB2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45C9E-8259-414C-A5EB-E01896DB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A9F6-955B-46D3-A724-EA0EB15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099-D884-42A0-886A-E9B046F9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4411-227C-46E7-A0D8-94200C1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6494-467B-4BD0-98D8-CE8C4A2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E577-9060-4907-9D73-7C9B5C9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5258-6B2A-445E-8C91-347A143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E4D2-B44C-4B24-A8FC-98C306E3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4A65-8254-4911-8C0A-D2C77B35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D395-1898-403D-8A9C-C3C11183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5A6B-7F57-495F-B5F3-EC0D0C42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B105-2485-4E04-9CF1-9E9FFC7F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4E8C5-D7A2-4AE1-ACC9-16EE1B40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36D-D970-4967-AF97-2344A2F6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44B15-5470-4287-85EE-FF21761A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9309-4703-40D3-87B3-F5932C25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5E7B-0290-4047-A2C2-C4FE357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0F85-E015-416E-9DA8-58E6737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6B1A7-FB03-4EE0-B2A1-77AD2362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89EE-6146-4E1F-A6C7-A77C944B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84673-DD82-4304-A9E8-FB7848BC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C26A-2DD3-4D4B-BAC8-02A8E8AE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4A12-41AE-4C12-9CBA-1A972E42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9B50A-6275-4C9B-88CB-DFCACC45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C36-7C31-4226-BED1-7F9F81D0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8FE23-06C5-4232-AA76-A127661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F310F-942A-410C-9613-FDDCFD8E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C9DE-1744-412A-B9A6-400520E7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5589D-799E-463D-BE2B-C504E463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C3A4-45AA-4DBE-8508-187A9BA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AF39-CD41-4592-8D72-2B8C5C9C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567B-C906-48B6-A656-164E1EB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B2C1B-EBE7-488D-92D1-6D79674A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C8E7-9EC2-4FE4-9F18-975412AA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5B46E-EE12-469B-8878-49BC2BA1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778-9C39-4B52-A5EE-89927EE6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D3621-3C48-42A5-A8CF-C1986638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9282B-5194-415A-82C2-A31895CF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B115-04B7-4946-8567-961D96CD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EF0F4-02E3-4E5B-9ACB-E7C7B404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2A964-9C71-4B82-9D87-6BBDE61A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C5F29-6D46-4481-BE15-1D8F1407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B8BFD-1AC0-4924-8476-9F2ECB2C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BD4D7-E163-4C5F-8C52-8A62EF38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293B-45EF-4A98-AA12-8CE600A9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6D47-62E5-4F2A-B845-61C6B6D0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C36-4053-4FF6-B12C-A938905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4E2F-4F75-4A4C-B534-97C2D817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6DA7F-7A81-4BD5-8A77-51068B7F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D3FD-EF54-4CDA-B842-9DE298CA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84086-6045-44FE-8971-EB24690E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D637-C33D-4D6D-9051-129FF1E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58E0-4D1F-46A4-B2FB-9032A0AF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94FAA-66B2-4759-BC46-09B6F01C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95AEA-8EA5-44D9-B216-7C915C4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6173-0B62-4EB7-AAAE-15F96D82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8A291-7EDF-4AAB-ABBD-2217696C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192-6F60-480E-94BC-B273DCD2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5C40-A4BA-4E6B-84C9-5FE8BDF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D59C-462E-4B12-BBBD-E157D56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620A4-08BC-42D9-825A-5EC1F790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3E625-16E4-4D98-A5BB-2DE41B26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95FD-1B2A-4A09-A2BC-11C8240B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251A5-4DB0-4728-A353-0196F2D6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E269F-B816-4878-9D90-2209F5B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4E05-5585-483A-A651-815DF11A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68CB-5E47-4466-97BE-C2B726EF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1EBA-3D0F-4367-B723-B1FF3016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66B-0ABF-4958-B40A-2BBBFFF6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28187-A5F8-4FF8-907A-7F599C4D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FE83F-B108-467D-9C86-5D71668D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2805-E3BC-40A3-9683-73DA895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8A05-83FE-4AD1-A378-14D66D54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ED8BA-D60D-49B4-AEEB-AADC2DC0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EE693-7FCE-453C-ACFB-3AF3D935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9943F-BFD9-46CF-922E-7DB7A917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1224-F444-4B9C-B665-5722B9CD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C4874-1BD9-4818-807B-4169AE4F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35C23-403D-43BB-9D86-EB02519F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AD8A-0D00-4163-95DD-57C798BA878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108A-611D-4A6F-9848-CEAD205BFE9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C208-9B74-4470-B03E-99251D4760A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26CD-BFD3-49A9-8EF5-6C2747C0272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3C0D-01FC-4FA0-A340-023288E5528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850D-6B67-4A0F-804E-D63080405D3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5688-09D2-47A8-92C3-38B1C67D9A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0A63-4F96-4F94-A92D-3901A028D8A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5CFA-5172-4A2F-9F04-6F19C6FB63E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tructure and Principles </a:t>
            </a:r>
            <a:r>
              <a:rPr b="0" i="1" lang="en-US" sz="2400" spc="-1" strike="noStrike">
                <a:solidFill>
                  <a:srgbClr val="443329"/>
                </a:solidFill>
                <a:latin typeface="Franklin Gothic Book"/>
              </a:rPr>
              <a:t>Chapter 3 Section 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eparation of Power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Action Button: Home 3"/>
          <p:cNvSpPr/>
          <p:nvPr/>
        </p:nvSpPr>
        <p:spPr>
          <a:xfrm>
            <a:off x="7162920" y="48006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11518" y="3837"/>
                </a:moveTo>
                <a:lnTo>
                  <a:pt x="14094" y="6448"/>
                </a:ln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lnTo>
                  <a:pt x="18480" y="10800"/>
                </a:lnTo>
                <a:lnTo>
                  <a:pt x="16827" y="10800"/>
                </a:lnTo>
                <a:lnTo>
                  <a:pt x="16827" y="17989"/>
                </a:lnTo>
                <a:lnTo>
                  <a:pt x="6208" y="17989"/>
                </a:lnTo>
                <a:lnTo>
                  <a:pt x="6208" y="10800"/>
                </a:lnTo>
                <a:lnTo>
                  <a:pt x="4555" y="10800"/>
                </a:lnTo>
                <a:close/>
              </a:path>
              <a:path fill="darkenLess" w="23035" h="21600">
                <a:moveTo>
                  <a:pt x="14094" y="6448"/>
                </a:move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close/>
              </a:path>
              <a:path fill="darkenLess" w="23035" h="21600">
                <a:moveTo>
                  <a:pt x="10595" y="14299"/>
                </a:moveTo>
                <a:lnTo>
                  <a:pt x="12440" y="14299"/>
                </a:lnTo>
                <a:lnTo>
                  <a:pt x="12440" y="17989"/>
                </a:lnTo>
                <a:lnTo>
                  <a:pt x="16827" y="17989"/>
                </a:lnTo>
                <a:lnTo>
                  <a:pt x="16827" y="10800"/>
                </a:lnTo>
                <a:lnTo>
                  <a:pt x="6208" y="10800"/>
                </a:lnTo>
                <a:lnTo>
                  <a:pt x="6208" y="17989"/>
                </a:lnTo>
                <a:lnTo>
                  <a:pt x="10595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imited Governm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Action Button: Home 3"/>
          <p:cNvSpPr/>
          <p:nvPr/>
        </p:nvSpPr>
        <p:spPr>
          <a:xfrm>
            <a:off x="7315200" y="48769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10800" y="4610"/>
                </a:moveTo>
                <a:lnTo>
                  <a:pt x="13376" y="7221"/>
                </a:lnTo>
                <a:lnTo>
                  <a:pt x="13376" y="5480"/>
                </a:lnTo>
                <a:lnTo>
                  <a:pt x="15152" y="5480"/>
                </a:lnTo>
                <a:lnTo>
                  <a:pt x="15152" y="8996"/>
                </a:lnTo>
                <a:lnTo>
                  <a:pt x="17763" y="11572"/>
                </a:lnTo>
                <a:lnTo>
                  <a:pt x="16109" y="11572"/>
                </a:lnTo>
                <a:lnTo>
                  <a:pt x="16109" y="18762"/>
                </a:lnTo>
                <a:lnTo>
                  <a:pt x="5491" y="18762"/>
                </a:lnTo>
                <a:lnTo>
                  <a:pt x="5491" y="11572"/>
                </a:lnTo>
                <a:lnTo>
                  <a:pt x="3837" y="11572"/>
                </a:lnTo>
                <a:close/>
              </a:path>
              <a:path fill="darkenLess" w="21600" h="23145">
                <a:moveTo>
                  <a:pt x="13376" y="7221"/>
                </a:moveTo>
                <a:lnTo>
                  <a:pt x="13376" y="5480"/>
                </a:lnTo>
                <a:lnTo>
                  <a:pt x="15152" y="5480"/>
                </a:lnTo>
                <a:lnTo>
                  <a:pt x="15152" y="8996"/>
                </a:lnTo>
                <a:close/>
              </a:path>
              <a:path fill="darkenLess" w="21600" h="23145">
                <a:moveTo>
                  <a:pt x="9877" y="15071"/>
                </a:moveTo>
                <a:lnTo>
                  <a:pt x="11723" y="15071"/>
                </a:lnTo>
                <a:lnTo>
                  <a:pt x="11723" y="18762"/>
                </a:lnTo>
                <a:lnTo>
                  <a:pt x="16109" y="18762"/>
                </a:lnTo>
                <a:lnTo>
                  <a:pt x="16109" y="11572"/>
                </a:lnTo>
                <a:lnTo>
                  <a:pt x="5491" y="11572"/>
                </a:lnTo>
                <a:lnTo>
                  <a:pt x="5491" y="18762"/>
                </a:lnTo>
                <a:lnTo>
                  <a:pt x="9877" y="1876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94384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Legislative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Judicial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hecks and Balance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Action Button: Home 3"/>
          <p:cNvSpPr/>
          <p:nvPr/>
        </p:nvSpPr>
        <p:spPr>
          <a:xfrm>
            <a:off x="6629400" y="46483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1" y="4707"/>
                </a:lnTo>
                <a:lnTo>
                  <a:pt x="16951" y="8224"/>
                </a:lnTo>
                <a:lnTo>
                  <a:pt x="19562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0" y="17989"/>
                </a:lnTo>
                <a:lnTo>
                  <a:pt x="7290" y="10800"/>
                </a:lnTo>
                <a:lnTo>
                  <a:pt x="5637" y="10800"/>
                </a:lnTo>
                <a:close/>
              </a:path>
              <a:path fill="darkenLess" w="25199" h="21600">
                <a:moveTo>
                  <a:pt x="15176" y="6448"/>
                </a:moveTo>
                <a:lnTo>
                  <a:pt x="15176" y="4707"/>
                </a:lnTo>
                <a:lnTo>
                  <a:pt x="16951" y="4707"/>
                </a:lnTo>
                <a:lnTo>
                  <a:pt x="16951" y="8224"/>
                </a:lnTo>
                <a:close/>
              </a:path>
              <a:path fill="darkenLess" w="25199" h="21600">
                <a:moveTo>
                  <a:pt x="11677" y="14299"/>
                </a:moveTo>
                <a:lnTo>
                  <a:pt x="13522" y="14299"/>
                </a:lnTo>
                <a:lnTo>
                  <a:pt x="13522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0" y="10800"/>
                </a:lnTo>
                <a:lnTo>
                  <a:pt x="7290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hecks and Balance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Executive Branch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Action Button: Home 3"/>
          <p:cNvSpPr/>
          <p:nvPr/>
        </p:nvSpPr>
        <p:spPr>
          <a:xfrm>
            <a:off x="68580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Limited Governmen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Action Button: Home 3"/>
          <p:cNvSpPr/>
          <p:nvPr/>
        </p:nvSpPr>
        <p:spPr>
          <a:xfrm>
            <a:off x="7010280" y="51814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amb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mend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es the reason and goals of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 form a more perfect Union, establish Justice, insure domestic Tranquility, provide for the common defense, promote the general Welfare, and secure the Blessings of Liberty to ourselves and our poster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1 establishes the legislative branch and it’s rules of ope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2 creates and defines the executive branch (to carry out laws made by the legislative branch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3 establishes the Supreme Court, or judicial branch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anges to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Constitution has been amended 27 times throughout the nation’s history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first 10 amendments are known as the Bill of Right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pular Sovereignty – rule by the peop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ederalism – power shared between Federal and State govern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paration of Powers – the three branches of government created in the articles each have responsibilities to keep any one branch from having too much pow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s and Balances – each branch of government exercises some control over the oth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udicial Review – the Court decides whether or not laws are constitution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ed Government – the Constitution limits the actions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tructure and Princip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hapter 3, Section 1 QUIZ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ed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egislative Bran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paration of Pow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s and Balance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2:05:06Z</dcterms:created>
  <dc:creator>Jan</dc:creator>
  <dc:description/>
  <dc:language>en-US</dc:language>
  <cp:lastModifiedBy>Jan</cp:lastModifiedBy>
  <dcterms:modified xsi:type="dcterms:W3CDTF">2010-07-19T13:07:38Z</dcterms:modified>
  <cp:revision>5</cp:revision>
  <dc:subject/>
  <dc:title>The American Constitution</dc:title>
</cp:coreProperties>
</file>